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31.xml.rels" ContentType="application/vnd.openxmlformats-package.relationships+xml"/>
  <Override PartName="/ppt/notesSlides/_rels/notesSlide29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14.jpeg" ContentType="image/jpeg"/>
  <Override PartName="/ppt/media/image8.png" ContentType="image/png"/>
  <Override PartName="/ppt/media/image13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  <p:sldId id="284" r:id="rId44"/>
    <p:sldId id="285" r:id="rId45"/>
    <p:sldId id="286" r:id="rId46"/>
    <p:sldId id="287" r:id="rId47"/>
    <p:sldId id="288" r:id="rId48"/>
    <p:sldId id="289" r:id="rId49"/>
    <p:sldId id="290" r:id="rId50"/>
    <p:sldId id="291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slide" Target="slides/slide29.xml"/><Relationship Id="rId45" Type="http://schemas.openxmlformats.org/officeDocument/2006/relationships/slide" Target="slides/slide30.xml"/><Relationship Id="rId46" Type="http://schemas.openxmlformats.org/officeDocument/2006/relationships/slide" Target="slides/slide31.xml"/><Relationship Id="rId47" Type="http://schemas.openxmlformats.org/officeDocument/2006/relationships/slide" Target="slides/slide32.xml"/><Relationship Id="rId48" Type="http://schemas.openxmlformats.org/officeDocument/2006/relationships/slide" Target="slides/slide33.xml"/><Relationship Id="rId49" Type="http://schemas.openxmlformats.org/officeDocument/2006/relationships/slide" Target="slides/slide34.xml"/><Relationship Id="rId50" Type="http://schemas.openxmlformats.org/officeDocument/2006/relationships/slide" Target="slides/slide35.xml"/><Relationship Id="rId51" Type="http://schemas.openxmlformats.org/officeDocument/2006/relationships/slide" Target="slides/slide36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DDBB201-A690-432F-8859-6C946BA779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CF7B178-E42A-4860-B2C4-AAFD2837BF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32ECF3-1178-4B28-9A1E-28D058CDBC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7BEAC-3995-4EF7-970B-76371433D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7C353-0438-4D39-984B-F2B72518E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BB1DE5-EAE5-4714-905A-5E64BC47F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467837-D877-42A7-9A0F-42D45F7BF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FCAADA-D9F0-46C3-949C-F8F8B5D7B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4D9503-A44C-4CF2-903F-EB9E2D9FA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C7F815-C3B4-46AA-94E0-8441FFCAC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CF39DD-7560-43C2-A73C-C834B3BA3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7EEE8A-239C-46C6-B1BA-B04EDDB07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00775E-E648-4011-8E40-EEE9391BE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9B231A-C325-478F-B240-085C1FB7F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904133-7318-44A8-AA67-1DC2F3CC1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F11BC-4A2C-4EB0-AA0C-BF36B402A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104F26-45A0-48A4-B7AA-079EE5F57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7900E5-176B-48D7-96CC-8422C84CA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88138C-AE84-496F-BCAF-33511442C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276612-DAAC-4B2A-B1C4-F853BBA93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185F94-0254-4D8C-8500-9CD39E64F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D029BF-3F33-4CD8-89DB-A01BD3BEE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9D0345-6AFA-4F8F-BADB-2DF0ADCFE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78251D-C4AE-4638-BD4B-8B22732B8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A11F35-86E6-4208-AC0D-161168E5F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F1508A-1AFC-4DEE-A81C-6B2658AA4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99883-9D2A-4E4A-852C-0061F397A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5057A0-EAC9-4DC3-98B3-96A6332D9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2071F9-E437-42D5-9BA6-02EF2A5F6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1A3B5F-DB39-4471-86DC-EC840CC06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D8992E-D3C4-4A98-88C2-9CBF158A2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760D8E-B19C-4AD8-9943-F1C3224E2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DFD9BC-E7E3-4297-B7E4-F28B77025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785C07-E870-4DC4-888D-7E40083A8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7F374A-D35A-4416-8BD7-0EB0FC002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390FCE-FB3B-4AE8-997F-5CACAF8C1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5C1837-C625-430A-BACC-2F5FDD9F5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06B46-E73E-4B91-BFD3-A3C5ADE6B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ACEA8B-898E-44A9-8920-291C56238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F1C371-A70C-418A-8FE3-D12D2B21D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71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72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2A1CAB-BE98-4A27-82CD-6F0871075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B55BD9-60C7-47C4-AB46-AC586250A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9D3ED3-0F54-49A1-ABD2-44DEBE7E4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C95BF0-0147-4308-A9E1-0F0145EC6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DE93E8-15AA-4E45-BEC1-6B26641F7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29249F-565C-4326-9956-754A3D3F2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B4EABF-8285-4E49-900B-F9065E8E3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184E55-6E6A-4C5E-87DD-9B39971D8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9A0C0-EEF6-44CE-8C5D-533050A94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CBAAB1-8320-4540-BD8C-DCD0464CE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A146CE-9AD1-49DB-B806-55D416592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9C33D7-BF35-487F-928D-32EB411C7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EA68EB-BF9E-4DAE-AB07-23803574F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7DF2C8-9510-464B-B7BE-F73C17F6A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E5B6E-654E-4A62-8267-009A50C5D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8642C-3BFA-40A0-AB6C-9A7723E33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232CA-D9F2-4046-B229-2A6CFF160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050C9-672C-4274-9E99-625EAA911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D4A12-BB5D-43D5-9CBA-10C090CB2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272B7-D70F-48D1-AFB7-C0095A4A9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C1317-2972-489E-A239-3975857E0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B9BD1-A7BA-4B4C-9A4A-280E57290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89A95-20E2-4666-B939-33C74D93A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86DC9-0840-4A64-87A3-25650BDC8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C7789-39E1-48C9-AF51-84A1424CB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0A0198-11A3-4D4D-9007-7B37E8F67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51CD9F-62DD-415C-A62D-878418D62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F2CB48-C85B-42B9-8AC7-9DCA20094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17A506-D388-44F7-8316-A5890174E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FF5D73-E506-4405-A985-D6045E013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7102A-3971-45A3-A1E0-C08A6BAF6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A48F3C-C47C-40B4-95AE-86C8D3BEB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087E2B-866D-4905-AD13-1AE36F550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18EB8C-C8E5-4EC0-979B-4BEB01DD4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080609-F2FA-4C96-B634-FB6B2C725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8798BC-C55C-4383-B1F7-A26350356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875158-7C47-4CE6-B07E-6679B3296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D97CB8-CE58-4E75-A436-CE983B4B6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8ADC50-89FF-4202-A5D8-D454F8458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0128D1-F5C5-4A77-9C8A-978AE901D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1CD272-3B3D-47DE-BBE8-C7B2274C9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378DD-32A1-42EE-BD0D-637E4D40D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A5713E-DC1B-4629-95B5-2FBDE8C5B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A0271F-6AF2-4918-94F1-66E2BC9E3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EA335A-762D-409C-9723-4FEB48831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AE7CCF-DF6A-4968-BDAE-861D27335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6A0FE4-411E-450E-8612-5813D67C0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4D12E7-1F15-4ACB-B4B2-10219069E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45685D-E740-4917-9774-7E50A53F4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481971-268F-462F-A856-AD04DA67C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E76184-2301-46DC-BBE2-6E43B6F5F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9DADE7-86D3-48AF-8E5F-B0E106BC7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39683-A234-4080-B4ED-2ED5C0304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C43D69-D78E-4687-96B2-969D4DF98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4EBD38-00C0-4832-A7CF-441319432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B30EC9-9B99-4F7E-9B2F-477AD11F5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7FE922-A796-45AD-852C-11D806FAF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6825C4-F751-4751-879B-317C10E8F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F3A85D-92D0-4741-B466-053F3A017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688E09-6DBD-41D0-B069-AE4F29ABD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28FD57-4737-478C-B192-56A06E64F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02B83F-B1EC-4574-AF39-38B1D92CA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42177F-2950-4050-83B2-AF8400C3B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0E077-11BE-4F04-AB2D-BDBE0AF20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97D941-9EF0-49B5-94D2-DC5D04F4A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F46C1A-7148-44F5-9C84-32D11C383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E06181-DF5F-4E3E-BACD-825C31BF7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F4A184-7E1D-4B63-B67B-DA2E1D552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6F13D5-4921-4FFC-AA6E-B70ACBFA4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A3C827-B43F-4E95-9DA5-37D00EA56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35A3B8-CC56-4D51-8EF0-92BF58093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BF8342-F773-4D0D-B63F-832B80BAB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2DBB4B-4D7A-4BE9-A45E-D912180E4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355FA6-1FFB-4158-810F-2B7AE99C9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48EDE-DB7B-44E3-AA76-C42C5BE80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3B060E-1BE4-4B84-B409-2F38A3B9B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2B2B9A-B5AF-417C-AFB5-69C0D4036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CA8B11-3E3C-484C-9A71-6E1F811F1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972E4C-34F2-4B7D-B1A7-EEF44D7A6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F7BE34-96E6-459C-A54E-6C2DC8D1B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0A4DF9-ADC8-4C03-8096-1E257BF6F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47852A-CFD6-4BFC-9F68-4BB9BD91D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AB70A4-FEB4-46DA-AE60-51571DCF5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7724D1-C65B-458B-9118-098EE7F66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DBD319-137E-4DDA-825F-AABB4DFEB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E67C2-DF6C-4610-9834-9E522DA15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2CFB71-DCE2-4DAE-96AD-862A59226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AD28E2-42F2-4E24-A740-CAB5C5858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79D36D-24D7-48BD-B9F2-9E9A65A19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4D1D18-917D-4F93-9F32-E4ED6ADB3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D39D8D-A9ED-4108-9F1E-2EB86A446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5B1D4B-8C29-4C75-93BB-7FB9D50E3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90EEFB-629D-40EA-B74E-66EA331C4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7774BD-917A-4D1B-B9BF-E0FA9475F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673E54-C972-45D1-B4E3-128711C4C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7A692B-43E1-4342-833A-089BA9C94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9F41A-769F-4CFC-B8E6-25B0BB814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792BCF-C462-4D2D-9E5A-194899D03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F681EC-0CDA-4843-8EFB-352352218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9D62C8-6128-4374-85BE-83B38325A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6FA3E1-1256-4DA1-B90A-CF1C8C163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13BA1A-3B92-4F24-8297-0A46849BB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EC015A-F3E8-4B93-9E7D-780DCD5E5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592F18-CC44-43F2-BAE9-2E471F8C1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47901C-9748-49F9-90DB-51026A5C9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6E7612-C6DB-40EB-A09E-19A9B6F50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9E2B20-A335-4AFF-B7F9-421B40D07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130417-9A78-4F2A-A6F6-36CBAC03FBE6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42CBA2D-62DA-44CA-A32F-13A3FE5C29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fld id="{1BB6F0D0-A166-4A90-8966-2B01FDD711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6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584E705-C9DC-41B7-9C50-201F8E86AD36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87C1201-D038-4118-ABAA-16AA50FCBF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43DC59A-4F1D-4F23-AE5F-650A674A2D30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0FD5546-0CCF-4A73-BC01-4B72A202AC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3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474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D25A60-319E-438A-A4D9-441855EA619D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4FB8921-C96C-4469-BE63-ECC554465F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6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517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CBCC868-2F1B-48A8-A9C0-A20BEFD2B4AC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C607CFB-BB7A-44A4-A7B0-7E75118D84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B5871A-722C-4C1B-B032-B8E7E8CDE3EE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30E9245-55DE-4D8A-92F3-9CE5A461FC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1A57E08-26D9-41F4-9E3D-EC3F090723A8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71830D-FD56-4156-AADD-552BA01D0E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0B56864-459B-4369-AB97-3E8135F4E2A8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E6EC3C-7A72-4BFF-9D0E-246022A90F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05C1051-595F-455C-AD1E-FC720799197B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61B027-2B29-4611-BFF0-AEAD7ED1E3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4B8622E-E2BF-4D1A-8F23-33191B8FAD64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9B2BE4-6516-4AC6-A622-E463A1D8AA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400ABEC-1D5A-45AD-852C-62D31221F656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B99EE1D-6E82-4DDB-91DC-DF482F4B95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4E0787D-C82B-4D78-A8A3-C02C91796F4C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169F9C3-0F09-4E74-8622-E226552768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1371600" y="1248840"/>
            <a:ext cx="6283440" cy="5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5400"/>
            </a:br>
            <a:r>
              <a:rPr b="1" lang="cs-CZ" sz="5400" spc="-1" strike="noStrike">
                <a:solidFill>
                  <a:srgbClr val="f3912c"/>
                </a:solidFill>
                <a:latin typeface="Helvetica CE"/>
              </a:rPr>
              <a:t>Rozpočet projektu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cs-CZ" sz="2800" spc="-1" strike="noStrike">
                <a:solidFill>
                  <a:srgbClr val="f3912c"/>
                </a:solidFill>
                <a:latin typeface="Helvetica CE"/>
              </a:rPr>
              <a:t>Mgr. Tomáš Drážný</a:t>
            </a:r>
            <a:br>
              <a:rPr sz="2800"/>
            </a:br>
            <a:br>
              <a:rPr sz="2800"/>
            </a:b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64" name="Slide Number Placeholder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1FC2058-A31F-4EEE-A3A2-9F7E6407AD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1 - Osobní náklady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0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F4C9C5-B075-4686-A60E-AABA1969BF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osoby, které mají v rámci projektu uzavřen pracovně právní vztah (pracovnísmlouva, DPP, DPČ)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hrubá mzda v místě realizace, oboru a čase obvyklá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doporučená výše mezd/platů - Metodický dopis č. 4 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400" spc="-1" strike="noStrike">
                <a:solidFill>
                  <a:srgbClr val="000000"/>
                </a:solidFill>
                <a:latin typeface="Helvetica CE"/>
              </a:rPr>
              <a:t>http://www.msmt.cz/strukturalni-fondy/vyse-mezd-platu-v-projektech-op-vk</a:t>
            </a: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1 - Osobní náklady</a:t>
            </a:r>
            <a:br>
              <a:rPr sz="3200"/>
            </a:b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Finanční manažer  0,2 * 20.000 = 4.000 Kč</a:t>
            </a: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0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A89853-FC29-4EDF-959A-47BFEA3832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Picture 9" descr=""/>
          <p:cNvPicPr/>
          <p:nvPr/>
        </p:nvPicPr>
        <p:blipFill>
          <a:blip r:embed="rId1"/>
          <a:stretch/>
        </p:blipFill>
        <p:spPr>
          <a:xfrm>
            <a:off x="814320" y="1833480"/>
            <a:ext cx="7232760" cy="3819600"/>
          </a:xfrm>
          <a:prstGeom prst="rect">
            <a:avLst/>
          </a:prstGeom>
          <a:ln w="0">
            <a:noFill/>
          </a:ln>
        </p:spPr>
      </p:pic>
      <p:sp>
        <p:nvSpPr>
          <p:cNvPr id="610" name="Šipka doleva 6"/>
          <p:cNvSpPr/>
          <p:nvPr/>
        </p:nvSpPr>
        <p:spPr>
          <a:xfrm>
            <a:off x="5753160" y="4297320"/>
            <a:ext cx="799920" cy="222120"/>
          </a:xfrm>
          <a:prstGeom prst="leftArrow">
            <a:avLst>
              <a:gd name="adj1" fmla="val 50000"/>
              <a:gd name="adj2" fmla="val 50018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Šipka doprava 7"/>
          <p:cNvSpPr/>
          <p:nvPr/>
        </p:nvSpPr>
        <p:spPr>
          <a:xfrm rot="16200000">
            <a:off x="2961360" y="4736160"/>
            <a:ext cx="752400" cy="220680"/>
          </a:xfrm>
          <a:prstGeom prst="rightArrow">
            <a:avLst>
              <a:gd name="adj1" fmla="val 50000"/>
              <a:gd name="adj2" fmla="val 49990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2" name="Obrázek 10" descr="Benefit-logo.JPG"/>
          <p:cNvPicPr/>
          <p:nvPr/>
        </p:nvPicPr>
        <p:blipFill>
          <a:blip r:embed="rId2"/>
          <a:srcRect l="0" t="0" r="0" b="3670"/>
          <a:stretch/>
        </p:blipFill>
        <p:spPr>
          <a:xfrm>
            <a:off x="7149960" y="5948280"/>
            <a:ext cx="1754280" cy="4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329840" y="1260360"/>
            <a:ext cx="6458040" cy="43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1 - Osobní náklady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1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D25F1F2-A522-408F-853A-FE60B0396D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5" name="Picture 9" descr=""/>
          <p:cNvPicPr/>
          <p:nvPr/>
        </p:nvPicPr>
        <p:blipFill>
          <a:blip r:embed="rId1"/>
          <a:stretch/>
        </p:blipFill>
        <p:spPr>
          <a:xfrm>
            <a:off x="1206360" y="1557360"/>
            <a:ext cx="6581880" cy="2444760"/>
          </a:xfrm>
          <a:prstGeom prst="rect">
            <a:avLst/>
          </a:prstGeom>
          <a:ln w="0">
            <a:noFill/>
          </a:ln>
        </p:spPr>
      </p:pic>
      <p:pic>
        <p:nvPicPr>
          <p:cNvPr id="616" name="Obrázek 7" descr="komentar.JPG"/>
          <p:cNvPicPr/>
          <p:nvPr/>
        </p:nvPicPr>
        <p:blipFill>
          <a:blip r:embed="rId2"/>
          <a:stretch/>
        </p:blipFill>
        <p:spPr>
          <a:xfrm>
            <a:off x="1501920" y="4002120"/>
            <a:ext cx="5956200" cy="11113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617" name="Obdélník 10"/>
          <p:cNvSpPr/>
          <p:nvPr/>
        </p:nvSpPr>
        <p:spPr>
          <a:xfrm flipV="1" rot="10800000">
            <a:off x="1645920" y="4196160"/>
            <a:ext cx="5600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Hodinová sazba lektora je lehce nadprůměrná, jedná se o výjimečného odborníka. Jeho zapojení do projektu je klíčové. Viz blíže příloha č. 8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Šipka doleva 11"/>
          <p:cNvSpPr/>
          <p:nvPr/>
        </p:nvSpPr>
        <p:spPr>
          <a:xfrm>
            <a:off x="5634000" y="3048120"/>
            <a:ext cx="800280" cy="222120"/>
          </a:xfrm>
          <a:prstGeom prst="leftArrow">
            <a:avLst>
              <a:gd name="adj1" fmla="val 50000"/>
              <a:gd name="adj2" fmla="val 50040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Šipka doleva 12"/>
          <p:cNvSpPr/>
          <p:nvPr/>
        </p:nvSpPr>
        <p:spPr>
          <a:xfrm rot="8874600">
            <a:off x="1499400" y="3244680"/>
            <a:ext cx="800280" cy="222480"/>
          </a:xfrm>
          <a:prstGeom prst="leftArrow">
            <a:avLst>
              <a:gd name="adj1" fmla="val 50000"/>
              <a:gd name="adj2" fmla="val 49959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Obdélník 13"/>
          <p:cNvSpPr/>
          <p:nvPr/>
        </p:nvSpPr>
        <p:spPr>
          <a:xfrm>
            <a:off x="1340640" y="5113440"/>
            <a:ext cx="399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000" spc="-1" strike="noStrike">
                <a:solidFill>
                  <a:srgbClr val="f79646"/>
                </a:solidFill>
                <a:latin typeface="Helvetica CE"/>
                <a:ea typeface="Helvetica CE"/>
              </a:rPr>
              <a:t>Využívejte komentář k rozpoč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1" name="Obrázek 10" descr="Benefit-logo.JPG"/>
          <p:cNvPicPr/>
          <p:nvPr/>
        </p:nvPicPr>
        <p:blipFill>
          <a:blip r:embed="rId3"/>
          <a:srcRect l="0" t="0" r="0" b="3670"/>
          <a:stretch/>
        </p:blipFill>
        <p:spPr>
          <a:xfrm>
            <a:off x="7149960" y="5948280"/>
            <a:ext cx="1754280" cy="4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1 - Osobní náklady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2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B91B279-8A72-496A-8D52-65A8179B34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f79646"/>
                </a:solidFill>
                <a:latin typeface="Helvetica CE"/>
              </a:rPr>
              <a:t>Přímé náklady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hlavní manažer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finanční manažer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lektor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metodik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25" name="Podnadpis 1"/>
          <p:cNvSpPr/>
          <p:nvPr/>
        </p:nvSpPr>
        <p:spPr>
          <a:xfrm>
            <a:off x="4635360" y="2171880"/>
            <a:ext cx="3314880" cy="30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f79646"/>
                </a:solidFill>
                <a:latin typeface="Helvetica CE"/>
                <a:ea typeface="Helvetica CE"/>
              </a:rPr>
              <a:t>Nepřímé nákla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  <a:ea typeface="Helvetica CE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  <a:ea typeface="Helvetica CE"/>
              </a:rPr>
              <a:t>účetní organiz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  <a:ea typeface="Helvetica CE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  <a:ea typeface="Helvetica CE"/>
              </a:rPr>
              <a:t>mzdová účet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  <a:ea typeface="Helvetica CE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  <a:ea typeface="Helvetica CE"/>
              </a:rPr>
              <a:t>personalis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  <a:ea typeface="Helvetica CE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  <a:ea typeface="Helvetica CE"/>
              </a:rPr>
              <a:t>ostraha, úkl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200"/>
            </a:br>
            <a:br>
              <a:rPr sz="3200"/>
            </a:b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2 - Služební cesty zahraniční</a:t>
            </a:r>
            <a:br>
              <a:rPr sz="3200"/>
            </a:b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Zahraniční pracovní cesty realizačního týmu:</a:t>
            </a:r>
            <a:br>
              <a:rPr sz="2000"/>
            </a:b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- </a:t>
            </a: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jen v řádně odůvodněných případech</a:t>
            </a:r>
            <a:br>
              <a:rPr sz="1600"/>
            </a:b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- </a:t>
            </a: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přímá vazba na klíčové aktivity</a:t>
            </a:r>
            <a:br>
              <a:rPr sz="1600"/>
            </a:b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-</a:t>
            </a: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specifikace KDO, KAM a PROČ</a:t>
            </a: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2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0D5C08-7023-41F7-9B82-04D8292CF0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8" name="Picture 4" descr=""/>
          <p:cNvPicPr/>
          <p:nvPr/>
        </p:nvPicPr>
        <p:blipFill>
          <a:blip r:embed="rId1"/>
          <a:stretch/>
        </p:blipFill>
        <p:spPr>
          <a:xfrm>
            <a:off x="1189080" y="2762280"/>
            <a:ext cx="6153120" cy="2689200"/>
          </a:xfrm>
          <a:prstGeom prst="rect">
            <a:avLst/>
          </a:prstGeom>
          <a:ln w="0">
            <a:noFill/>
          </a:ln>
        </p:spPr>
      </p:pic>
      <p:sp>
        <p:nvSpPr>
          <p:cNvPr id="629" name="Šipka doleva 8"/>
          <p:cNvSpPr/>
          <p:nvPr/>
        </p:nvSpPr>
        <p:spPr>
          <a:xfrm rot="19872600">
            <a:off x="6153120" y="4686120"/>
            <a:ext cx="800280" cy="222120"/>
          </a:xfrm>
          <a:prstGeom prst="leftArrow">
            <a:avLst>
              <a:gd name="adj1" fmla="val 50000"/>
              <a:gd name="adj2" fmla="val 50040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0" name="Obrázek 10" descr="Benefit-logo.JPG"/>
          <p:cNvPicPr/>
          <p:nvPr/>
        </p:nvPicPr>
        <p:blipFill>
          <a:blip r:embed="rId2"/>
          <a:srcRect l="0" t="0" r="0" b="3670"/>
          <a:stretch/>
        </p:blipFill>
        <p:spPr>
          <a:xfrm>
            <a:off x="7149960" y="5948280"/>
            <a:ext cx="1754280" cy="4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2 - Služební cesty zahraniční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3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C7E4D4B-4A06-4088-AE68-3FD0B0A856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• 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Cestovné 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jízdenky, letenky, výdaje za použití  vozidla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výdaje za dopravu zahraničního experta do ČR a zpě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• 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Ubytování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• 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Stravné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• 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Ostatní 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nutné vedlejší výdaje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zahraniční expert v ČR, per diems 230 €/den (ubytování,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stravné a cestovné v ČR)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2 - Služební cesty zahraniční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3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298709-77AA-4FCA-BB1E-3B75C1DBEA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6" name="Picture 8" descr=""/>
          <p:cNvPicPr/>
          <p:nvPr/>
        </p:nvPicPr>
        <p:blipFill>
          <a:blip r:embed="rId1"/>
          <a:stretch/>
        </p:blipFill>
        <p:spPr>
          <a:xfrm>
            <a:off x="665280" y="2600280"/>
            <a:ext cx="8478720" cy="2081160"/>
          </a:xfrm>
          <a:prstGeom prst="rect">
            <a:avLst/>
          </a:prstGeom>
          <a:ln w="0">
            <a:noFill/>
          </a:ln>
        </p:spPr>
      </p:pic>
      <p:pic>
        <p:nvPicPr>
          <p:cNvPr id="637" name="Obrázek 13" descr="Benefit-logo.JPG"/>
          <p:cNvPicPr/>
          <p:nvPr/>
        </p:nvPicPr>
        <p:blipFill>
          <a:blip r:embed="rId2"/>
          <a:srcRect l="0" t="0" r="0" b="3670"/>
          <a:stretch/>
        </p:blipFill>
        <p:spPr>
          <a:xfrm>
            <a:off x="7151760" y="5948280"/>
            <a:ext cx="1754280" cy="408240"/>
          </a:xfrm>
          <a:prstGeom prst="rect">
            <a:avLst/>
          </a:prstGeom>
          <a:ln w="0">
            <a:noFill/>
          </a:ln>
        </p:spPr>
      </p:pic>
      <p:sp>
        <p:nvSpPr>
          <p:cNvPr id="638" name="Šipka doleva 7"/>
          <p:cNvSpPr/>
          <p:nvPr/>
        </p:nvSpPr>
        <p:spPr>
          <a:xfrm rot="10800000">
            <a:off x="130320" y="3024000"/>
            <a:ext cx="799920" cy="222120"/>
          </a:xfrm>
          <a:prstGeom prst="leftArrow">
            <a:avLst>
              <a:gd name="adj1" fmla="val 50000"/>
              <a:gd name="adj2" fmla="val 50018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Šipka doleva 8"/>
          <p:cNvSpPr/>
          <p:nvPr/>
        </p:nvSpPr>
        <p:spPr>
          <a:xfrm rot="10800000">
            <a:off x="130320" y="3246120"/>
            <a:ext cx="799920" cy="222120"/>
          </a:xfrm>
          <a:prstGeom prst="leftArrow">
            <a:avLst>
              <a:gd name="adj1" fmla="val 50000"/>
              <a:gd name="adj2" fmla="val 50018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Šipka doleva 9"/>
          <p:cNvSpPr/>
          <p:nvPr/>
        </p:nvSpPr>
        <p:spPr>
          <a:xfrm rot="10800000">
            <a:off x="130320" y="3643200"/>
            <a:ext cx="799920" cy="222480"/>
          </a:xfrm>
          <a:prstGeom prst="leftArrow">
            <a:avLst>
              <a:gd name="adj1" fmla="val 50000"/>
              <a:gd name="adj2" fmla="val 49937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Šipka doleva 10"/>
          <p:cNvSpPr/>
          <p:nvPr/>
        </p:nvSpPr>
        <p:spPr>
          <a:xfrm rot="10800000">
            <a:off x="130320" y="3981240"/>
            <a:ext cx="799920" cy="222120"/>
          </a:xfrm>
          <a:prstGeom prst="leftArrow">
            <a:avLst>
              <a:gd name="adj1" fmla="val 50000"/>
              <a:gd name="adj2" fmla="val 50018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Šipka doleva 11"/>
          <p:cNvSpPr/>
          <p:nvPr/>
        </p:nvSpPr>
        <p:spPr>
          <a:xfrm rot="10800000">
            <a:off x="130320" y="4346280"/>
            <a:ext cx="799920" cy="222120"/>
          </a:xfrm>
          <a:prstGeom prst="leftArrow">
            <a:avLst>
              <a:gd name="adj1" fmla="val 50000"/>
              <a:gd name="adj2" fmla="val 50018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2 - Služební cesty zahraniční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4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F96C213-954D-438C-90B3-0FA0670118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 txBox="1"/>
          <p:nvPr/>
        </p:nvSpPr>
        <p:spPr>
          <a:xfrm>
            <a:off x="794880" y="2171520"/>
            <a:ext cx="342108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f79646"/>
                </a:solidFill>
                <a:latin typeface="Helvetica CE"/>
              </a:rPr>
              <a:t>Přímé náklady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zahraniční cestovné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ubytování a stravné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v zahraničí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cesta a per diems 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zahranič. experta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46" name="Podnadpis 1"/>
          <p:cNvSpPr/>
          <p:nvPr/>
        </p:nvSpPr>
        <p:spPr>
          <a:xfrm>
            <a:off x="4389480" y="2171880"/>
            <a:ext cx="4635360" cy="356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f79646"/>
                </a:solidFill>
                <a:latin typeface="Helvetica CE"/>
                <a:ea typeface="Helvetica CE"/>
              </a:rPr>
              <a:t>Nepřímé nákla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  <a:ea typeface="Helvetica CE"/>
              </a:rPr>
              <a:t>tuzemské cestovn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  <a:ea typeface="Helvetica CE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  <a:ea typeface="Helvetica CE"/>
              </a:rPr>
              <a:t>realizačního týmu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  <a:ea typeface="Helvetica CE"/>
              </a:rPr>
              <a:t>ubytování a stravn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  <a:ea typeface="Helvetica CE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  <a:ea typeface="Helvetica CE"/>
              </a:rPr>
              <a:t>realizačního týmu v Č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3 - Zařízení 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1" lang="cs-CZ" sz="3200" spc="-1" strike="noStrike">
                <a:solidFill>
                  <a:srgbClr val="f79646"/>
                </a:solidFill>
                <a:latin typeface="Helvetica CE"/>
              </a:rPr>
              <a:t>limit 25%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4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5F01DE-7CE6-4E36-896E-74FE366036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Nehmotný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 majetek do 60 tis. Kč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nákup softwaru, licence, studijního programu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Dlouhodobý nehmotný majetek nad 60 tis. Kč  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Drobný </a:t>
            </a: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hmotný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 majetek do 40 tis. Kč 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nákup výukového a spotřebního materiálu 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3 - Zařízení 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1" lang="cs-CZ" sz="3200" spc="-1" strike="noStrike">
                <a:solidFill>
                  <a:srgbClr val="f79646"/>
                </a:solidFill>
                <a:latin typeface="Helvetica CE"/>
              </a:rPr>
              <a:t>limit 25%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5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5F22E9-81F0-4E68-A223-6E13E89F7B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Použitý drobný hmotný majetek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Nájem zařízení, operativní leasing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Daňové odpisy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Výdaje na opravy a údržbu -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jen majetek pořízený ze způsobilých výdajů projektu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Křížové financování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Oblast podpory 1.1 – výzva č. 26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6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DB007B-4784-4D9A-A3E2-64C9E2258C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Finanční podpora na jeden IPO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minimální výše: 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5.000.000,- Kč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maximální výše: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30.000.000,- Kč 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v návaznosti na typ podporovaných aktivi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3 - Zařízení 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1" lang="cs-CZ" sz="3200" spc="-1" strike="noStrike">
                <a:solidFill>
                  <a:srgbClr val="f79646"/>
                </a:solidFill>
                <a:latin typeface="Helvetica CE"/>
              </a:rPr>
              <a:t>limit 25%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5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0D9444-6B72-4461-9456-E9E52FBFFA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KŘÍŽOVÉ FINANCOVÁNÍ </a:t>
            </a: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- limit 9 %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pouze příjemce, který daňově neodepisuje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Investiční část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• </a:t>
            </a: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hmotný majetek nad 40 tis. Kč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Neinvestiční část 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nábytek do 40 tis. Kč - židle, stoly, lavice pro cílovou skupinu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nábytek a vybavení pro realizační tým - max. 15 tis. Kč na 1 přepočtený úvazek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3 - Zařízení 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1" lang="cs-CZ" sz="3200" spc="-1" strike="noStrike">
                <a:solidFill>
                  <a:srgbClr val="f79646"/>
                </a:solidFill>
                <a:latin typeface="Helvetica CE"/>
              </a:rPr>
              <a:t>limit 25%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5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1EF02E-E431-477A-8E88-A2242845FA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 txBox="1"/>
          <p:nvPr/>
        </p:nvSpPr>
        <p:spPr>
          <a:xfrm>
            <a:off x="1330200" y="2171520"/>
            <a:ext cx="35402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f79646"/>
                </a:solidFill>
                <a:latin typeface="Helvetica CE"/>
              </a:rPr>
              <a:t>Přímé náklady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notebooky pro cílovou skupinu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odborná literatura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software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59" name="Podnadpis 1"/>
          <p:cNvSpPr/>
          <p:nvPr/>
        </p:nvSpPr>
        <p:spPr>
          <a:xfrm>
            <a:off x="4870440" y="2171880"/>
            <a:ext cx="3816360" cy="39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f79646"/>
                </a:solidFill>
                <a:latin typeface="Helvetica CE"/>
                <a:ea typeface="Helvetica CE"/>
              </a:rPr>
              <a:t>Nepřímé nákla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  <a:ea typeface="Helvetica CE"/>
              </a:rPr>
              <a:t>papíry a psací potře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  <a:ea typeface="Helvetica CE"/>
              </a:rPr>
              <a:t>kancelářské potřeby pro administraci projek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5 - Nákup služeb 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f79646"/>
                </a:solidFill>
                <a:latin typeface="Helvetica CE"/>
              </a:rPr>
              <a:t>limit 49%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6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475FFF5-5EB4-45F0-A2AB-22BF69B09C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Publikace/školící materiály/manuály 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tisk skript, tvorba publikací, učebnic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Odborné služby/studie a výzkum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překlady textů, zpracování analýz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Výdaje na konference/kurzy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výdaje na zajištění konferencí a kurzů </a:t>
            </a: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pořádaných v rámci projektu </a:t>
            </a: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(pronájem prostor, techniky)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5 - Nákup služeb 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f79646"/>
                </a:solidFill>
                <a:latin typeface="Helvetica CE"/>
              </a:rPr>
              <a:t>limit 49%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6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CF69F44-F714-4B84-BEA9-A1EBCBD236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Podpora účastníků (stravné/ubytování) 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limit pro stravné 300 Kč/os/den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limit pro ubytování 1 500 Kč/os/noc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Jiné výdaje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5 - Nákup služeb 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f79646"/>
                </a:solidFill>
                <a:latin typeface="Helvetica CE"/>
              </a:rPr>
              <a:t>limit 49%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6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7DD9CB1-312A-42D7-80F9-17AA77F838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 txBox="1"/>
          <p:nvPr/>
        </p:nvSpPr>
        <p:spPr>
          <a:xfrm>
            <a:off x="1329840" y="2171520"/>
            <a:ext cx="333396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f79646"/>
                </a:solidFill>
                <a:latin typeface="Helvetica CE"/>
              </a:rPr>
              <a:t>Přímé náklady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tvorba e‑learningového portálu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pronájem prostor pro seminář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69" name="Podnadpis 1"/>
          <p:cNvSpPr/>
          <p:nvPr/>
        </p:nvSpPr>
        <p:spPr>
          <a:xfrm>
            <a:off x="5002200" y="2171880"/>
            <a:ext cx="3816360" cy="47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f79646"/>
                </a:solidFill>
                <a:latin typeface="Helvetica CE"/>
              </a:rPr>
              <a:t>Nepřímé nákla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    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náklady na daňové a 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právní poradenstv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    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náklady na realizaci 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výběrových řízení 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nezbytných pro projekt 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(inzerce, poradenství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6 - Stavební úpravy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7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F7829BE-38FD-489A-8A8B-E7F933352D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Drobné stavební úpravy - do 40 tis. Kč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32640" indent="-332640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32640" indent="-33264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Stavební úpravy v rámci křížového financování 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32640" indent="-33264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32640" indent="-332640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Stavební úpravy – odpisy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32640" indent="-33264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úprava pracovních míst nebo úprava přístupu pro osoby se zdravotním postižením, a úprava výukových, tréninkových nebo pracovních prostor, používaných na realizaci aktivit s 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cílovou skupinou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7 - Přímá podpora 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3200" spc="-1" strike="noStrike">
                <a:solidFill>
                  <a:srgbClr val="f79646"/>
                </a:solidFill>
                <a:latin typeface="Helvetica CE"/>
              </a:rPr>
              <a:t>limit 20%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7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0C56FF5-66C7-40EA-81A8-5D45065CD4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Helvetica CE"/>
              </a:rPr>
              <a:t>Mzdové příspěvky</a:t>
            </a: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34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Helvetica CE"/>
              </a:rPr>
              <a:t>poskytovány zaměstnavateli jako náhrada mzdy pracovníka účastnícího se dalšího vzdělávání </a:t>
            </a: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34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34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Helvetica CE"/>
              </a:rPr>
              <a:t>Cestovné, ubytování a stravné </a:t>
            </a: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34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Helvetica CE"/>
              </a:rPr>
              <a:t>placené přímo zástupcům cílové skupiny</a:t>
            </a: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>
              <a:spcBef>
                <a:spcPts val="34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34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Helvetica CE"/>
              </a:rPr>
              <a:t>Doprovodné aktivity</a:t>
            </a: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34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Helvetica CE"/>
              </a:rPr>
              <a:t>asistentské služby žákům se speciálními potřebami</a:t>
            </a: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1330200" y="1260000"/>
            <a:ext cx="68724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8 - Náklady vyplývající přímo z Rozhodnutí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7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65C157-57E6-4DD4-9892-148C0A170F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 txBox="1"/>
          <p:nvPr/>
        </p:nvSpPr>
        <p:spPr>
          <a:xfrm>
            <a:off x="1329840" y="218556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Audit projektu 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schválená finanční podpora projektu ≥ 3 mil. Kč)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pic>
        <p:nvPicPr>
          <p:cNvPr id="679" name="Picture 2" descr=""/>
          <p:cNvPicPr/>
          <p:nvPr/>
        </p:nvPicPr>
        <p:blipFill>
          <a:blip r:embed="rId1"/>
          <a:srcRect l="648" t="5400" r="1297" b="5400"/>
          <a:stretch/>
        </p:blipFill>
        <p:spPr>
          <a:xfrm>
            <a:off x="1487520" y="3040200"/>
            <a:ext cx="6715080" cy="733320"/>
          </a:xfrm>
          <a:prstGeom prst="rect">
            <a:avLst/>
          </a:prstGeom>
          <a:ln w="9360">
            <a:solidFill>
              <a:srgbClr val="7f7f7f"/>
            </a:solidFill>
            <a:miter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680" name="Šipka doleva 6"/>
          <p:cNvSpPr/>
          <p:nvPr/>
        </p:nvSpPr>
        <p:spPr>
          <a:xfrm rot="10800000">
            <a:off x="5370120" y="3551040"/>
            <a:ext cx="800280" cy="222120"/>
          </a:xfrm>
          <a:prstGeom prst="leftArrow">
            <a:avLst>
              <a:gd name="adj1" fmla="val 50000"/>
              <a:gd name="adj2" fmla="val 50040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odnadpis 1"/>
          <p:cNvSpPr/>
          <p:nvPr/>
        </p:nvSpPr>
        <p:spPr>
          <a:xfrm>
            <a:off x="1330200" y="3916440"/>
            <a:ext cx="3333960" cy="31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f79646"/>
                </a:solidFill>
                <a:latin typeface="Helvetica CE"/>
                <a:ea typeface="Helvetica CE"/>
              </a:rPr>
              <a:t>Přímé nákla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Helvetica CE"/>
                <a:ea typeface="Helvetica CE"/>
              </a:rPr>
              <a:t>aud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odnadpis 1"/>
          <p:cNvSpPr/>
          <p:nvPr/>
        </p:nvSpPr>
        <p:spPr>
          <a:xfrm>
            <a:off x="4870440" y="4000680"/>
            <a:ext cx="3816360" cy="47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f79646"/>
                </a:solidFill>
                <a:latin typeface="Helvetica CE"/>
              </a:rPr>
              <a:t>Nepřímé nákla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bankovní poplatk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publicita projektu včetně úvodní a </a:t>
            </a: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závěrečné konfer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3" name="Obrázek 3" descr="Benefit-logo.JPG"/>
          <p:cNvPicPr/>
          <p:nvPr/>
        </p:nvPicPr>
        <p:blipFill>
          <a:blip r:embed="rId2"/>
          <a:srcRect l="0" t="0" r="0" b="3670"/>
          <a:stretch/>
        </p:blipFill>
        <p:spPr>
          <a:xfrm>
            <a:off x="7203960" y="6006960"/>
            <a:ext cx="1754280" cy="4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Nepřímé náklady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8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C68D51-F92F-4246-9045-B3AE735E8F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•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podíl nepřímých nákladů se stanoví jako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 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procento dané výzvou z přímých 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 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způsobilých výdajů celkem bez 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 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křížového financování položka rozpočtu 9.1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•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nepřímé náklady není třeba 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prokazovat účetními doklady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1071360" y="1130400"/>
            <a:ext cx="7886520" cy="81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Nepřímé náklady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graphicFrame>
        <p:nvGraphicFramePr>
          <p:cNvPr id="688" name=""/>
          <p:cNvGraphicFramePr/>
          <p:nvPr/>
        </p:nvGraphicFramePr>
        <p:xfrm>
          <a:off x="1071720" y="2341440"/>
          <a:ext cx="7535880" cy="2748240"/>
        </p:xfrm>
        <a:graphic>
          <a:graphicData uri="http://schemas.openxmlformats.org/drawingml/2006/table">
            <a:tbl>
              <a:tblPr/>
              <a:tblGrid>
                <a:gridCol w="4944960"/>
                <a:gridCol w="2590920"/>
              </a:tblGrid>
              <a:tr h="54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Helvetica CE"/>
                        </a:rPr>
                        <a:t>Objem přímých nákladů (bez nákladů spadajících do křížového financování) – položka 9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Helvetica CE"/>
                        </a:rPr>
                        <a:t>% nepřímých nákladů </a:t>
                      </a:r>
                      <a:r>
                        <a:rPr b="1" lang="cs-CZ" sz="1400" spc="-1" strike="noStrike">
                          <a:solidFill>
                            <a:srgbClr val="ffffff"/>
                          </a:solidFill>
                          <a:latin typeface="Helvetica CE"/>
                        </a:rPr>
                        <a:t>	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Helvetica CE"/>
                        </a:rPr>
                        <a:t>Přímé náklady ≤ 6 mil. Kč </a:t>
                      </a: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Helvetica CE"/>
                        </a:rPr>
                        <a:t>	</a:t>
                      </a: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Helvetica CE"/>
                        </a:rPr>
                        <a:t>	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Helvetica CE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Helvetica CE"/>
                        </a:rPr>
                        <a:t>Přímé náklady &gt; 6 mil. Kč ≤ 10 mil. Kč </a:t>
                      </a: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Helvetica CE"/>
                        </a:rPr>
                        <a:t>	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Helvetica CE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Helvetica CE"/>
                        </a:rPr>
                        <a:t>Přímé náklady &gt; 10 mil. Kč ≤ 15 mil. Kč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Helvetica CE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64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Helvetica CE"/>
                        </a:rPr>
                        <a:t>Přímé náklady &gt; 15 mil. Kč </a:t>
                      </a: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Helvetica CE"/>
                        </a:rPr>
                        <a:t>	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Helvetica CE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Oblast podpory 1.1 – výzva č. 26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6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5C296CB-A773-4688-A733-AF7777EAC5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Křížové financování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křížové financování do maximální 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výše </a:t>
            </a: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9%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 celkových způsobilých výdajů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Helvetica CE"/>
              </a:rPr>
              <a:t>Nepřímé náklady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v rámci výzvy budou uplatněna pravidla pro nepřímé náklady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Nepřímé náklady - příklady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9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684BDC2-C924-4B3E-9953-7A92E82B54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tisk a kopírování, nájem kanceláře a nákup kancelářského materiálu pro administraci projektu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vedení účetnictví, personalistika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nákup vody, paliv a energie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telefonní poplatky, poštovné, balné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správa počítačových sítí a internetových stránek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pořízení zásob či materiálu pro občerstvení, …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2" name="Obrázek 14" descr="celkove.JPG"/>
          <p:cNvPicPr/>
          <p:nvPr/>
        </p:nvPicPr>
        <p:blipFill>
          <a:blip r:embed="rId1"/>
          <a:srcRect l="575" t="0" r="0" b="69877"/>
          <a:stretch/>
        </p:blipFill>
        <p:spPr>
          <a:xfrm>
            <a:off x="1353960" y="2403360"/>
            <a:ext cx="6107400" cy="8668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1071360" y="1072800"/>
            <a:ext cx="7886520" cy="107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Nepřímé náklady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pic>
        <p:nvPicPr>
          <p:cNvPr id="694" name="Obrázek 3" descr="Benefit-logo.JPG"/>
          <p:cNvPicPr/>
          <p:nvPr/>
        </p:nvPicPr>
        <p:blipFill>
          <a:blip r:embed="rId2"/>
          <a:srcRect l="0" t="0" r="0" b="3670"/>
          <a:stretch/>
        </p:blipFill>
        <p:spPr>
          <a:xfrm>
            <a:off x="7203960" y="6006960"/>
            <a:ext cx="1754280" cy="408240"/>
          </a:xfrm>
          <a:prstGeom prst="rect">
            <a:avLst/>
          </a:prstGeom>
          <a:ln w="0">
            <a:noFill/>
          </a:ln>
        </p:spPr>
      </p:pic>
      <p:pic>
        <p:nvPicPr>
          <p:cNvPr id="695" name="Obrázek 15" descr="nn_benefit.JPG"/>
          <p:cNvPicPr/>
          <p:nvPr/>
        </p:nvPicPr>
        <p:blipFill>
          <a:blip r:embed="rId3"/>
          <a:stretch/>
        </p:blipFill>
        <p:spPr>
          <a:xfrm>
            <a:off x="1871640" y="3814920"/>
            <a:ext cx="4767120" cy="15904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696" name="TextovéPole 19"/>
          <p:cNvSpPr/>
          <p:nvPr/>
        </p:nvSpPr>
        <p:spPr>
          <a:xfrm>
            <a:off x="3794040" y="4187880"/>
            <a:ext cx="1289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14 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TextovéPole 20"/>
          <p:cNvSpPr/>
          <p:nvPr/>
        </p:nvSpPr>
        <p:spPr>
          <a:xfrm>
            <a:off x="4535640" y="4187880"/>
            <a:ext cx="1422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977 566,8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Šipka doprava 16"/>
          <p:cNvSpPr/>
          <p:nvPr/>
        </p:nvSpPr>
        <p:spPr>
          <a:xfrm>
            <a:off x="4775040" y="2560680"/>
            <a:ext cx="978120" cy="222120"/>
          </a:xfrm>
          <a:prstGeom prst="rightArrow">
            <a:avLst>
              <a:gd name="adj1" fmla="val 50000"/>
              <a:gd name="adj2" fmla="val 50050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Šipka doprava 17"/>
          <p:cNvSpPr/>
          <p:nvPr/>
        </p:nvSpPr>
        <p:spPr>
          <a:xfrm>
            <a:off x="2327400" y="5183280"/>
            <a:ext cx="977760" cy="222120"/>
          </a:xfrm>
          <a:prstGeom prst="rightArrow">
            <a:avLst>
              <a:gd name="adj1" fmla="val 50000"/>
              <a:gd name="adj2" fmla="val 50031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TextovéPole 24"/>
          <p:cNvSpPr/>
          <p:nvPr/>
        </p:nvSpPr>
        <p:spPr>
          <a:xfrm>
            <a:off x="5513400" y="4800600"/>
            <a:ext cx="12891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14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30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Daň z přidané hodnoty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0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B1785E-D30E-4393-BB11-5EA0DDC8E1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f79646"/>
                </a:solidFill>
                <a:latin typeface="Helvetica CE"/>
              </a:rPr>
              <a:t>Plátce DPH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•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DPH je způsobilým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výdajem, pokud je příjemce osvobozen od daně ve vazbě k aktivitám projektu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DPH není způsobilým 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výdajem, pokud má příjemce nárok na odpočet na vstupu i ve vazbě k aktivitám projektu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f79646"/>
                </a:solidFill>
                <a:latin typeface="Helvetica CE"/>
              </a:rPr>
              <a:t>Neplátce DPH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pro osoby neregistrované k DPH je daň z přidané hodnoty způsobilým výdajem    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39480" indent="-339480" algn="just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Nezpůsobilé výdaje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0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AA3FB7-0D49-4B2D-B7D0-A8094CADDD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Helvetica CE"/>
              </a:rPr>
              <a:t>Výdaje, které nejsou vynaloženy v souladu s cíli projektu</a:t>
            </a: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34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34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Helvetica CE"/>
              </a:rPr>
              <a:t>Výdaje, které nelze hradit z veřejných prostředků OPVK</a:t>
            </a: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34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34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Helvetica CE"/>
              </a:rPr>
              <a:t>Příklady nezpůsobilých výdajů:</a:t>
            </a: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34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Helvetica CE"/>
              </a:rPr>
              <a:t>kurzové ztráty, stipendia, splátky finančního leasingu, vedení běžného provozního účtu, peněžitá pomoc v mateřství, mzdy zaměstnanců nepodílejících se na realizaci projektu</a:t>
            </a: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Přehled financování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0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580CE8E-3D35-4458-AB8F-2346A8F586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9" name="Obrázek 4" descr="prehled financovani.JPG"/>
          <p:cNvPicPr/>
          <p:nvPr/>
        </p:nvPicPr>
        <p:blipFill>
          <a:blip r:embed="rId1"/>
          <a:stretch/>
        </p:blipFill>
        <p:spPr>
          <a:xfrm>
            <a:off x="1330200" y="1797120"/>
            <a:ext cx="5222880" cy="3722760"/>
          </a:xfrm>
          <a:prstGeom prst="rect">
            <a:avLst/>
          </a:prstGeom>
          <a:ln w="0">
            <a:noFill/>
          </a:ln>
        </p:spPr>
      </p:pic>
      <p:sp>
        <p:nvSpPr>
          <p:cNvPr id="710" name="Šipka doprava 6"/>
          <p:cNvSpPr/>
          <p:nvPr/>
        </p:nvSpPr>
        <p:spPr>
          <a:xfrm rot="10800000">
            <a:off x="5792760" y="2898720"/>
            <a:ext cx="977760" cy="222480"/>
          </a:xfrm>
          <a:prstGeom prst="rightArrow">
            <a:avLst>
              <a:gd name="adj1" fmla="val 50000"/>
              <a:gd name="adj2" fmla="val 49950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1" name="Obrázek 3" descr="Benefit-logo.JPG"/>
          <p:cNvPicPr/>
          <p:nvPr/>
        </p:nvPicPr>
        <p:blipFill>
          <a:blip r:embed="rId2"/>
          <a:srcRect l="0" t="0" r="0" b="3670"/>
          <a:stretch/>
        </p:blipFill>
        <p:spPr>
          <a:xfrm>
            <a:off x="7172280" y="5948280"/>
            <a:ext cx="1754280" cy="4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Závěrem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1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D1FF22-1D46-4F79-80E0-369FF53DDE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při tvorbě rozpočtu vycházejte z pokynů v platné Příručce pro žadatele, verze č. 6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věnujte pozornost aktuálním informacímk výzvám na  </a:t>
            </a:r>
            <a:r>
              <a:rPr b="0" lang="cs-CZ" sz="1600" spc="-1" strike="noStrike" u="sng">
                <a:solidFill>
                  <a:srgbClr val="558ed5"/>
                </a:solidFill>
                <a:uFillTx/>
                <a:latin typeface="Helvetica CE"/>
              </a:rPr>
              <a:t>http://www.msmt.cz/strukturalni-fondy/pro-zadatele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věnujte rozpočtu dostatek času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snažte se být konkrétní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využívejte komentář k rozpočtu či samostatné přílohy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v případě nejasností Vám rádi poradíme</a:t>
            </a: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A714B4E-6F51-4567-8E5D-8EB116C0C0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Obdélník 5"/>
          <p:cNvSpPr/>
          <p:nvPr/>
        </p:nvSpPr>
        <p:spPr>
          <a:xfrm>
            <a:off x="1116000" y="2136600"/>
            <a:ext cx="7031160" cy="259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600" spc="-1" strike="noStrike">
                <a:solidFill>
                  <a:srgbClr val="f3912c"/>
                </a:solidFill>
                <a:latin typeface="Arial"/>
              </a:rPr>
              <a:t>Děkuji za pozorno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Mgr. Tomáš Drážn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finanční manažer - Odbor CERA OPV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inisterstvo školství, mládeže a tělovýchovy Č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e-mail: </a:t>
            </a:r>
            <a:r>
              <a:rPr b="0" lang="cs-CZ" sz="1800" spc="-1" strike="noStrike" u="sng">
                <a:solidFill>
                  <a:srgbClr val="558ed5"/>
                </a:solidFill>
                <a:uFillTx/>
                <a:latin typeface="Helvetica CE"/>
                <a:ea typeface="Helvetica CE"/>
              </a:rPr>
              <a:t>tomas.drazny@msmt.c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Oblast podpory 1.1 – výzva č. 26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7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ECB889-9475-4BF9-9752-6B78BB8E94F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3" name="Zástupný symbol pro obsah 5" descr="benefit.JPG"/>
          <p:cNvPicPr/>
          <p:nvPr/>
        </p:nvPicPr>
        <p:blipFill>
          <a:blip r:embed="rId1"/>
          <a:srcRect l="0" t="0" r="21781" b="49555"/>
          <a:stretch/>
        </p:blipFill>
        <p:spPr>
          <a:xfrm>
            <a:off x="1330200" y="2052720"/>
            <a:ext cx="3156120" cy="3105000"/>
          </a:xfrm>
          <a:prstGeom prst="rect">
            <a:avLst/>
          </a:prstGeom>
          <a:ln w="9360">
            <a:solidFill>
              <a:srgbClr val="f79646"/>
            </a:solidFill>
            <a:miter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574" name="Obrázek 6" descr="benefit.JPG"/>
          <p:cNvPicPr/>
          <p:nvPr/>
        </p:nvPicPr>
        <p:blipFill>
          <a:blip r:embed="rId2"/>
          <a:srcRect l="0" t="50395" r="23062" b="0"/>
          <a:stretch/>
        </p:blipFill>
        <p:spPr>
          <a:xfrm>
            <a:off x="4270320" y="2451240"/>
            <a:ext cx="3143160" cy="3090600"/>
          </a:xfrm>
          <a:prstGeom prst="rect">
            <a:avLst/>
          </a:prstGeom>
          <a:ln w="9360">
            <a:solidFill>
              <a:srgbClr val="e46c0a"/>
            </a:solidFill>
            <a:miter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575" name="Šipka doleva 7"/>
          <p:cNvSpPr/>
          <p:nvPr/>
        </p:nvSpPr>
        <p:spPr>
          <a:xfrm rot="10800000">
            <a:off x="604440" y="4894200"/>
            <a:ext cx="725400" cy="263520"/>
          </a:xfrm>
          <a:prstGeom prst="leftArrow">
            <a:avLst>
              <a:gd name="adj1" fmla="val 50000"/>
              <a:gd name="adj2" fmla="val 49995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Šipka doleva 8"/>
          <p:cNvSpPr/>
          <p:nvPr/>
        </p:nvSpPr>
        <p:spPr>
          <a:xfrm rot="10800000">
            <a:off x="3906720" y="2835360"/>
            <a:ext cx="725760" cy="263520"/>
          </a:xfrm>
          <a:prstGeom prst="leftArrow">
            <a:avLst>
              <a:gd name="adj1" fmla="val 50000"/>
              <a:gd name="adj2" fmla="val 50020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Šipka doleva 9"/>
          <p:cNvSpPr/>
          <p:nvPr/>
        </p:nvSpPr>
        <p:spPr>
          <a:xfrm rot="10800000">
            <a:off x="3906720" y="3362400"/>
            <a:ext cx="725760" cy="263520"/>
          </a:xfrm>
          <a:prstGeom prst="leftArrow">
            <a:avLst>
              <a:gd name="adj1" fmla="val 50000"/>
              <a:gd name="adj2" fmla="val 50020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Šipka doleva 10"/>
          <p:cNvSpPr/>
          <p:nvPr/>
        </p:nvSpPr>
        <p:spPr>
          <a:xfrm rot="10800000">
            <a:off x="3906720" y="3098880"/>
            <a:ext cx="725760" cy="263520"/>
          </a:xfrm>
          <a:prstGeom prst="leftArrow">
            <a:avLst>
              <a:gd name="adj1" fmla="val 50000"/>
              <a:gd name="adj2" fmla="val 50020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9" name="Obrázek 10" descr="Benefit-logo.JPG"/>
          <p:cNvPicPr/>
          <p:nvPr/>
        </p:nvPicPr>
        <p:blipFill>
          <a:blip r:embed="rId3"/>
          <a:srcRect l="0" t="0" r="0" b="3670"/>
          <a:stretch/>
        </p:blipFill>
        <p:spPr>
          <a:xfrm>
            <a:off x="7149960" y="5948280"/>
            <a:ext cx="1754280" cy="4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Klíčové aktivity</a:t>
            </a:r>
            <a:br>
              <a:rPr sz="3200"/>
            </a:b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provázanost jednotlivých položek rozpočtu s aktivitami projektu</a:t>
            </a:r>
            <a:endParaRPr b="1" lang="en-US" sz="16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8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32E85A-E590-4581-92B6-30EB917DA5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2" name="Picture 7" descr=""/>
          <p:cNvPicPr/>
          <p:nvPr/>
        </p:nvPicPr>
        <p:blipFill>
          <a:blip r:embed="rId1"/>
          <a:stretch/>
        </p:blipFill>
        <p:spPr>
          <a:xfrm>
            <a:off x="957240" y="2171880"/>
            <a:ext cx="6311880" cy="3314520"/>
          </a:xfrm>
          <a:prstGeom prst="rect">
            <a:avLst/>
          </a:prstGeom>
          <a:ln w="0">
            <a:noFill/>
          </a:ln>
        </p:spPr>
      </p:pic>
      <p:sp>
        <p:nvSpPr>
          <p:cNvPr id="583" name="Obdélník 9"/>
          <p:cNvSpPr/>
          <p:nvPr/>
        </p:nvSpPr>
        <p:spPr>
          <a:xfrm>
            <a:off x="6399360" y="4070520"/>
            <a:ext cx="2400120" cy="1136520"/>
          </a:xfrm>
          <a:prstGeom prst="rect">
            <a:avLst/>
          </a:prstGeom>
          <a:solidFill>
            <a:srgbClr val="d7e4bd"/>
          </a:solidFill>
          <a:ln w="25560">
            <a:solidFill>
              <a:srgbClr val="000000">
                <a:alpha val="4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Jaké typy výdajů se k  aktivitě vztahují, popis výdajů pro danou aktivit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Šipka doleva 10"/>
          <p:cNvSpPr/>
          <p:nvPr/>
        </p:nvSpPr>
        <p:spPr>
          <a:xfrm>
            <a:off x="5673600" y="4781520"/>
            <a:ext cx="725760" cy="263520"/>
          </a:xfrm>
          <a:prstGeom prst="leftArrow">
            <a:avLst>
              <a:gd name="adj1" fmla="val 50000"/>
              <a:gd name="adj2" fmla="val 50020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5" name="Obrázek 10" descr="Benefit-logo.JPG"/>
          <p:cNvPicPr/>
          <p:nvPr/>
        </p:nvPicPr>
        <p:blipFill>
          <a:blip r:embed="rId2"/>
          <a:srcRect l="0" t="0" r="0" b="3670"/>
          <a:stretch/>
        </p:blipFill>
        <p:spPr>
          <a:xfrm>
            <a:off x="7149960" y="5948280"/>
            <a:ext cx="1754280" cy="4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200"/>
            </a:b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Realizační tým</a:t>
            </a:r>
            <a:br>
              <a:rPr sz="3200"/>
            </a:b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• manažerské a administrativní pozice</a:t>
            </a:r>
            <a:br>
              <a:rPr sz="1600"/>
            </a:b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• odborné pozice </a:t>
            </a: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8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297C15-9E03-45F8-9CDF-5C689657A5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8" name="Picture 4" descr=""/>
          <p:cNvPicPr/>
          <p:nvPr/>
        </p:nvPicPr>
        <p:blipFill>
          <a:blip r:embed="rId1"/>
          <a:stretch/>
        </p:blipFill>
        <p:spPr>
          <a:xfrm>
            <a:off x="1330200" y="2171880"/>
            <a:ext cx="6689880" cy="3314520"/>
          </a:xfrm>
          <a:prstGeom prst="rect">
            <a:avLst/>
          </a:prstGeom>
          <a:ln w="0">
            <a:noFill/>
          </a:ln>
        </p:spPr>
      </p:pic>
      <p:sp>
        <p:nvSpPr>
          <p:cNvPr id="589" name="Obdélník 7"/>
          <p:cNvSpPr/>
          <p:nvPr/>
        </p:nvSpPr>
        <p:spPr>
          <a:xfrm>
            <a:off x="5324400" y="3909960"/>
            <a:ext cx="2178000" cy="622440"/>
          </a:xfrm>
          <a:prstGeom prst="rect">
            <a:avLst/>
          </a:prstGeom>
          <a:solidFill>
            <a:srgbClr val="d7e4bd"/>
          </a:solidFill>
          <a:ln w="25560">
            <a:solidFill>
              <a:srgbClr val="000000">
                <a:alpha val="46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Helvetica CE"/>
              </a:rPr>
              <a:t>záznam pro částečný úvazek  na 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Šipka doleva 8"/>
          <p:cNvSpPr/>
          <p:nvPr/>
        </p:nvSpPr>
        <p:spPr>
          <a:xfrm>
            <a:off x="4576680" y="4268880"/>
            <a:ext cx="725400" cy="263520"/>
          </a:xfrm>
          <a:prstGeom prst="leftArrow">
            <a:avLst>
              <a:gd name="adj1" fmla="val 50000"/>
              <a:gd name="adj2" fmla="val 49995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1" name="Obrázek 10" descr="Benefit-logo.JPG"/>
          <p:cNvPicPr/>
          <p:nvPr/>
        </p:nvPicPr>
        <p:blipFill>
          <a:blip r:embed="rId2"/>
          <a:srcRect l="0" t="0" r="0" b="3670"/>
          <a:stretch/>
        </p:blipFill>
        <p:spPr>
          <a:xfrm>
            <a:off x="7149960" y="5948280"/>
            <a:ext cx="1754280" cy="4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1329840" y="1116000"/>
            <a:ext cx="6458040" cy="106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200"/>
            </a:b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Realizační tým</a:t>
            </a:r>
            <a:br>
              <a:rPr sz="3200"/>
            </a:br>
            <a:r>
              <a:rPr b="1" lang="cs-CZ" sz="1600" spc="-1" strike="noStrike">
                <a:solidFill>
                  <a:srgbClr val="000000"/>
                </a:solidFill>
                <a:latin typeface="Helvetica CE"/>
              </a:rPr>
              <a:t>informace ze záložky Realizační tým se automaticky nepřenášejí do záložky </a:t>
            </a:r>
            <a:br>
              <a:rPr sz="1600"/>
            </a:br>
            <a:endParaRPr b="1" lang="en-US" sz="16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9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F6D096-FC0F-4772-B57E-9ADC4D6724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4" name="Picture 2" descr=""/>
          <p:cNvPicPr/>
          <p:nvPr/>
        </p:nvPicPr>
        <p:blipFill>
          <a:blip r:embed="rId1"/>
          <a:stretch/>
        </p:blipFill>
        <p:spPr>
          <a:xfrm>
            <a:off x="1330200" y="2251080"/>
            <a:ext cx="6296040" cy="3094200"/>
          </a:xfrm>
          <a:prstGeom prst="rect">
            <a:avLst/>
          </a:prstGeom>
          <a:ln w="0">
            <a:noFill/>
          </a:ln>
        </p:spPr>
      </p:pic>
      <p:sp>
        <p:nvSpPr>
          <p:cNvPr id="595" name="Šipka doleva 7"/>
          <p:cNvSpPr/>
          <p:nvPr/>
        </p:nvSpPr>
        <p:spPr>
          <a:xfrm rot="20914200">
            <a:off x="4230360" y="3876840"/>
            <a:ext cx="725400" cy="263520"/>
          </a:xfrm>
          <a:prstGeom prst="leftArrow">
            <a:avLst>
              <a:gd name="adj1" fmla="val 50000"/>
              <a:gd name="adj2" fmla="val 49995"/>
            </a:avLst>
          </a:pr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Obdélník 8"/>
          <p:cNvSpPr/>
          <p:nvPr/>
        </p:nvSpPr>
        <p:spPr>
          <a:xfrm>
            <a:off x="4973760" y="3700440"/>
            <a:ext cx="1371600" cy="509760"/>
          </a:xfrm>
          <a:prstGeom prst="rect">
            <a:avLst/>
          </a:prstGeom>
          <a:solidFill>
            <a:srgbClr val="d7e4bd"/>
          </a:solidFill>
          <a:ln w="25560">
            <a:solidFill>
              <a:srgbClr val="000000">
                <a:alpha val="46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záznam DPČ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hod.*sazb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7" name="Obrázek 10" descr="Benefit-logo.JPG"/>
          <p:cNvPicPr/>
          <p:nvPr/>
        </p:nvPicPr>
        <p:blipFill>
          <a:blip r:embed="rId2"/>
          <a:srcRect l="0" t="0" r="0" b="3670"/>
          <a:stretch/>
        </p:blipFill>
        <p:spPr>
          <a:xfrm>
            <a:off x="7149960" y="5948280"/>
            <a:ext cx="1754280" cy="4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Základní pravidla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9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DF8929A-5D01-4A1E-916E-31E04521CD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 txBox="1"/>
          <p:nvPr/>
        </p:nvSpPr>
        <p:spPr>
          <a:xfrm>
            <a:off x="603000" y="2171520"/>
            <a:ext cx="795492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7964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f79646"/>
                </a:solidFill>
                <a:latin typeface="Helvetica CE"/>
              </a:rPr>
              <a:t>přiměřenost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 – ceny v místě, oboru a čase obvyklé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buClr>
                <a:srgbClr val="f7964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f79646"/>
                </a:solidFill>
                <a:latin typeface="Helvetica CE"/>
              </a:rPr>
              <a:t>hospodárnost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 – minimalizace výdajů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buClr>
                <a:srgbClr val="f7964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f79646"/>
                </a:solidFill>
                <a:latin typeface="Helvetica CE"/>
              </a:rPr>
              <a:t>účelnost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 – přímá vazba na projekt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601"/>
              </a:spcBef>
              <a:buClr>
                <a:srgbClr val="f79646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f79646"/>
                </a:solidFill>
                <a:latin typeface="Helvetica CE"/>
              </a:rPr>
              <a:t>efektivnost </a:t>
            </a:r>
            <a:r>
              <a:rPr b="0" lang="cs-CZ" sz="2400" spc="-1" strike="noStrike">
                <a:solidFill>
                  <a:srgbClr val="000000"/>
                </a:solidFill>
                <a:latin typeface="Helvetica CE"/>
              </a:rPr>
              <a:t>– maximalizace poměru mezi výstupy  a vstupy projektu</a:t>
            </a: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Helvetica CE"/>
              </a:rPr>
              <a:t>Kapitoly rozpočtu 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A1919C-80B1-42E8-AC5D-09907C0366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 txBox="1"/>
          <p:nvPr/>
        </p:nvSpPr>
        <p:spPr>
          <a:xfrm>
            <a:off x="1329840" y="2171520"/>
            <a:ext cx="6458040" cy="342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1 - Osobní náklady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2 - Služební cesty zahraniční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3 - Zařízení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f79646"/>
                </a:solidFill>
                <a:latin typeface="Helvetica CE"/>
              </a:rPr>
              <a:t>limit 25 %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5 - Nákup služeb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f79646"/>
                </a:solidFill>
                <a:latin typeface="Helvetica CE"/>
              </a:rPr>
              <a:t>limit 49 %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6 - Stavební úpravy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7 - Přímá podpora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	</a:t>
            </a:r>
            <a:r>
              <a:rPr b="0" lang="cs-CZ" sz="1800" spc="-1" strike="noStrike">
                <a:solidFill>
                  <a:srgbClr val="f79646"/>
                </a:solidFill>
                <a:latin typeface="Helvetica CE"/>
              </a:rPr>
              <a:t>limit 20 %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8 - Náklady vyplývající přímo z rozhodnutí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9 - Přímé způsobilé výdaje celkem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10 -</a:t>
            </a:r>
            <a:r>
              <a:rPr b="0" lang="cs-CZ" sz="1800" spc="-1" strike="noStrike">
                <a:solidFill>
                  <a:srgbClr val="000000"/>
                </a:solidFill>
                <a:latin typeface="Helvetica CE"/>
              </a:rPr>
              <a:t> </a:t>
            </a:r>
            <a:r>
              <a:rPr b="1" lang="cs-CZ" sz="1800" spc="-1" strike="noStrike">
                <a:solidFill>
                  <a:srgbClr val="000000"/>
                </a:solidFill>
                <a:latin typeface="Helvetica CE"/>
              </a:rPr>
              <a:t>Nepřímé výdaje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1T17:09:51Z</dcterms:created>
  <dc:creator>Amos Amos</dc:creator>
  <dc:description/>
  <dc:language>en-US</dc:language>
  <cp:lastModifiedBy>ugh</cp:lastModifiedBy>
  <dcterms:modified xsi:type="dcterms:W3CDTF">2011-01-11T07:31:58Z</dcterms:modified>
  <cp:revision>45</cp:revision>
  <dc:subject/>
  <dc:title>Titulní strana – Titulek</dc:title>
</cp:coreProperties>
</file>